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EA6-4D72-464C-B582-C603624E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26E-DE66-4C2C-BAF2-C52194AA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889-BC89-4B12-8430-647EDA16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2DB-31CA-43C1-BC0E-402B669C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C32-36CD-4D9A-A3CA-BB656BC1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FF2-0248-4BD7-9D38-5F4B9D8B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B97-7899-4EF6-AB92-6E64C9DB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D7C-106B-43A8-BFC3-66095233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937-0B01-4B18-B224-2DF05885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D64-8CC4-4CAF-B67D-64543C95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239-9DB7-4381-B01A-3127651F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E73-5B4A-43D7-A3C5-AF99DE1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D653-168B-4248-AB94-180A57CC5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Bielecki G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alifornia Image"/>
          <p:cNvPicPr/>
          <p:nvPr/>
        </p:nvPicPr>
        <p:blipFill>
          <a:blip r:embed="rId1"/>
          <a:stretch/>
        </p:blipFill>
        <p:spPr>
          <a:xfrm>
            <a:off x="533520" y="1828800"/>
            <a:ext cx="23810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’s population is 34,501,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8686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’s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’s capital is Sacramento. California is called the golde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410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Qu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lifornia They are used to earth quakes that they have houses that move with the earth qu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7848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4:01:03Z</dcterms:created>
  <dc:creator>Student</dc:creator>
  <dc:description/>
  <dc:language>en-US</dc:language>
  <cp:lastModifiedBy>Student</cp:lastModifiedBy>
  <dcterms:modified xsi:type="dcterms:W3CDTF">2012-05-14T14:28:13Z</dcterms:modified>
  <cp:revision>3</cp:revision>
  <dc:subject/>
  <dc:title>California</dc:title>
</cp:coreProperties>
</file>